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55D-4B2F-49BE-B99D-8C41B971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BEE-8C67-4C45-B3D3-E9742D48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DA0-20C1-4C18-920F-659A6822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ECE-BCAA-4CA4-8B70-D4A4EF14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9AE0-C3F9-4556-8030-10D3D7FF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33CC-670B-40C8-9CA7-83EEE686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3396-EBE6-41B8-B217-34F7CE1A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54AD-32B4-4E46-8D75-03EAB614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EF4F-8728-4BBD-A36B-332E515C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C0AC-8342-4E0B-888A-01AA625F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7F9A-8CEA-4527-89BA-9DDC4C9B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1656-A5D3-4AD3-8AEE-C1F5FBD2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E7A8-3630-46F5-9318-7C3C9FCF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42BB-9ACC-4938-BDC1-2BE40CF1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2410-4C74-4144-8FDA-566AE528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5547-8F00-481F-9FD6-24CDFF43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18D3-DC15-410D-979F-2BF20A0B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09E42-6000-4E8C-AE00-20BF5829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C08A6-1C91-4648-BDFC-4F1689D2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A2EC1-D33E-4516-A258-DA062351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0570A-3F4A-4FB6-8B44-A88557E9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A4204-2818-4B6A-93BB-0A2D396D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077-9B02-4366-A6D8-D8B2D147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A6284-53E2-4BB5-8DA1-9C8C7EC4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DAA5D-C8E3-40C6-A3EE-DB91F816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64F57-BD63-49B4-9026-88D461E5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2F38A-1435-44EA-888D-DBE73EFE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2306-3959-4DBD-88D0-2F32B763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DD725-3B07-4D82-9D3D-764DA12C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FDE9E-65CA-4FB8-A1BD-BFA6A124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14D5-EFBE-4811-88D0-3827951D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0F6-4E51-4C9F-A16B-C23E1385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A7E-E48C-4FCD-BF29-F48EAF01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CA0-6DE8-4B7C-B4A8-343FEAF1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3307-1CBE-4BAF-B01A-65580409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9D6-E4DC-4684-8AF9-5F28FF75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33BE-BC17-4CF7-915C-7AF0CBB0E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E246-6D39-42FB-8E62-59AC2706DB1C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7457-BC22-41FB-A691-8897AE5CC61C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90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Historical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ussion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fer back to the list of sources from the previous activity. What types of sources do you think would be the most reliable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’s wrong with this pictur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42920" y="2125800"/>
            <a:ext cx="74167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Historical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Lenin-1920"/>
          <p:cNvPicPr/>
          <p:nvPr/>
        </p:nvPicPr>
        <p:blipFill>
          <a:blip r:embed="rId1"/>
          <a:stretch/>
        </p:blipFill>
        <p:spPr>
          <a:xfrm>
            <a:off x="468360" y="1916280"/>
            <a:ext cx="4390920" cy="2469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Lenin-1927"/>
          <p:cNvPicPr/>
          <p:nvPr/>
        </p:nvPicPr>
        <p:blipFill>
          <a:blip r:embed="rId2"/>
          <a:stretch/>
        </p:blipFill>
        <p:spPr>
          <a:xfrm>
            <a:off x="4932360" y="3357720"/>
            <a:ext cx="388944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ebsites can sometimes be unreliable as anyone can post information on the internet. There are things that you can check for however, to help determine if a website is reliabl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site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heck that the author’s name and qualifications are listed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heck for a publication date. (The date that the website was last updated)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heck the suffix at the end of the web address. (.com, .edu, .org, .gov) This tells you whether it is a company, non-profit organisation, education related, or a government websit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y – Checking Rel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rganise yourself into pairs. One person is to be A and the other B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ch the Clip Carefu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35280" y="1830240"/>
            <a:ext cx="496872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’s need to tell their partner everything that they can remember about the clip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y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hat was Emily’s record time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How many stopwatches were there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How many children were wearing medal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How many pyramids did Emily make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hat colour pants was the lady in the white singlet wearing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of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re are two types of sources used in history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imary Sour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ary Source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ary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imary sources are any pieces of evidence that offer first hand account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at means that the source originated from the event in questio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ary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ary sources are sources that are created after the event usually from drawing on information from other sourc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76720" y="2060640"/>
            <a:ext cx="1277640" cy="127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356000" y="4653000"/>
            <a:ext cx="1397160" cy="1396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164360" y="206064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24000" y="2349360"/>
            <a:ext cx="1511280" cy="1656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H="1">
            <a:off x="2123640" y="2565360"/>
            <a:ext cx="1295640" cy="504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40360" y="1052640"/>
            <a:ext cx="2232000" cy="863640"/>
          </a:xfrm>
          <a:prstGeom prst="wedgeRectCallout">
            <a:avLst>
              <a:gd name="adj1" fmla="val -52847"/>
              <a:gd name="adj2" fmla="val 70037"/>
            </a:avLst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ill witnesses a car accid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/>
          <p:nvPr/>
        </p:nvCxnSpPr>
        <p:spPr>
          <a:xfrm>
            <a:off x="3635280" y="3429000"/>
            <a:ext cx="943920" cy="1170720"/>
          </a:xfrm>
          <a:prstGeom prst="straightConnector1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971640" y="4581360"/>
            <a:ext cx="2879640" cy="1657440"/>
          </a:xfrm>
          <a:prstGeom prst="wedgeRectCallout">
            <a:avLst>
              <a:gd name="adj1" fmla="val 48236"/>
              <a:gd name="adj2" fmla="val -96935"/>
            </a:avLst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ill then tells Sue about what he saw. His conversation is a primary source because he is an eye wit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651640" y="3141720"/>
            <a:ext cx="1512720" cy="15112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72360" y="4437000"/>
            <a:ext cx="2376360" cy="2160720"/>
          </a:xfrm>
          <a:prstGeom prst="wedgeRectCallout">
            <a:avLst>
              <a:gd name="adj1" fmla="val -37439"/>
              <a:gd name="adj2" fmla="val -79976"/>
            </a:avLst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ue then tells Ben about the car accident. This is a second-hand account and therefore a secondary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285264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5516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24720" y="2852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7654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raw the following table into your notebook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26920" y="2708280"/>
          <a:ext cx="7642440" cy="2208240"/>
        </p:xfrm>
        <a:graphic>
          <a:graphicData uri="http://schemas.openxmlformats.org/drawingml/2006/table">
            <a:tbl>
              <a:tblPr/>
              <a:tblGrid>
                <a:gridCol w="3821400"/>
                <a:gridCol w="382104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Primary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econdary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5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y Cont’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980720"/>
            <a:ext cx="813564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ort the following sources into the appropriate columns in the tabl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42560" y="3212640"/>
            <a:ext cx="34578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hotograph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et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ext Boo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ebsi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yewitness accou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3213000"/>
            <a:ext cx="3529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peech Tran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ocumen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ing Rel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hen using sources it is important to make sure that they are reliabl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re are questions that we can ask to determine how reliable a source is and if it is biased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to 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ho created the source and for what purpose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s everything that is reflected in the source accurate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s the evidence and information presented in the source supported by other source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04:47:14Z</dcterms:created>
  <dc:creator>scgiles</dc:creator>
  <dc:description/>
  <dc:language>en-US</dc:language>
  <cp:lastModifiedBy>scgiles</cp:lastModifiedBy>
  <dcterms:modified xsi:type="dcterms:W3CDTF">2007-07-10T22:14:35Z</dcterms:modified>
  <cp:revision>9</cp:revision>
  <dc:subject/>
  <dc:title>Using Historical Sources</dc:title>
</cp:coreProperties>
</file>